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cashreg.wav" ContentType="audio/x-wav"/>
  <Override PartName="/ppt/media/image5.jpeg" ContentType="image/jpeg"/>
  <Override PartName="/ppt/media/voltag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F37-4F96-4437-B7F8-4F5E1F03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664-0B9D-476D-A6D1-D628E25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70C-9A43-4025-B919-8BE90635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492-4DFF-456C-B953-4437EBF5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580-1202-427D-82D1-388926C3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68E-3741-4703-9A31-778564B4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BCC-D6D1-42E9-9E63-866EB01B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347-04F4-442C-8D01-7E85910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ACD-D2F6-4128-8CE4-C7B18A59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7BE-AAAE-4EA9-96FE-7E215103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DDC-A520-4420-B405-495A8C1A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3CF-AB1A-4DE9-A4B4-F414874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D75-E8E0-4176-90A9-F4A6EFE13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laychick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Calibri"/>
              </a:rPr>
              <a:t>By Noah Raw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1494000" y="2000160"/>
            <a:ext cx="6297480" cy="114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upload.wikimedia.org/wikipedia/commons/thumb/c/cd/Claychick.jpg/200px-Claychick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4960" y="428760"/>
            <a:ext cx="2690640" cy="1681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Wallace and Gromit"/>
          <p:cNvPicPr/>
          <p:nvPr/>
        </p:nvPicPr>
        <p:blipFill>
          <a:blip r:embed="rId5"/>
          <a:stretch/>
        </p:blipFill>
        <p:spPr>
          <a:xfrm>
            <a:off x="1143000" y="500040"/>
            <a:ext cx="2428920" cy="150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00799 0.25208 E">
                                      <p:cBhvr>
                                        <p:cTn id="6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Calibri"/>
              </a:rPr>
              <a:t>Material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ap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oothpi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23:12:38Z</dcterms:created>
  <dc:creator>Education</dc:creator>
  <dc:description/>
  <dc:language>en-US</dc:language>
  <cp:lastModifiedBy>Education</cp:lastModifiedBy>
  <dcterms:modified xsi:type="dcterms:W3CDTF">2009-05-21T23:50:01Z</dcterms:modified>
  <cp:revision>5</cp:revision>
  <dc:subject/>
  <dc:title>Slide 1</dc:title>
</cp:coreProperties>
</file>