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cashreg.wav" ContentType="audio/x-wav"/>
  <Override PartName="/ppt/media/image5.jpeg" ContentType="image/jpeg"/>
  <Override PartName="/ppt/media/voltag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6944-AAA6-4AD0-A78E-5D4B8D3C6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2F2F-DB20-4136-B5EB-5129D6A3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6E38-5FC2-4950-BEDB-EF86B20C5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64BE-30FF-445E-8550-0856FB957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9CE4-0522-41E8-BB01-A06CA84A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283D-B3FB-4E06-A1F5-0A3812A4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CE15-3297-4CFB-81A4-F63FB989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7477-5EF4-46B1-B213-7A0CCD5E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8965-E392-41C6-A2AA-5B4C581D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49C6-C8A6-4D07-9738-B7997277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5BE7-195C-4786-B2BC-BA70F0A5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5211-78E5-498B-AE80-358BE2E3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3912-EB58-4479-BE18-BC805D103B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en.wikipedia.org/wiki/File:Claychick.jpg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Calibri"/>
              </a:rPr>
              <a:t>By Noah Rawl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1494000" y="2000160"/>
            <a:ext cx="6297480" cy="1144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ttp://upload.wikimedia.org/wikipedia/commons/thumb/c/cd/Claychick.jpg/200px-Claychick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14960" y="428760"/>
            <a:ext cx="2690640" cy="1681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Wallace and Gromit"/>
          <p:cNvPicPr/>
          <p:nvPr/>
        </p:nvPicPr>
        <p:blipFill>
          <a:blip r:embed="rId5"/>
          <a:stretch/>
        </p:blipFill>
        <p:spPr>
          <a:xfrm>
            <a:off x="1143000" y="500040"/>
            <a:ext cx="2428920" cy="1509840"/>
          </a:xfrm>
          <a:prstGeom prst="rect">
            <a:avLst/>
          </a:prstGeom>
          <a:ln w="0">
            <a:noFill/>
          </a:ln>
        </p:spPr>
      </p:pic>
    </p:spTree>
  </p:cSld>
  <p:transition>
    <p:strips dir="lu"/>
    <p:sndAc>
      <p:stSnd>
        <p:snd r:embed="rId6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07407E-006 L 0.00799 0.25208 E">
                                      <p:cBhvr>
                                        <p:cTn id="6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2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0000"/>
                </a:solidFill>
                <a:latin typeface="Calibri"/>
              </a:rPr>
              <a:t>Material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la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ap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oothpic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23:12:38Z</dcterms:created>
  <dc:creator>Education</dc:creator>
  <dc:description/>
  <dc:language>en-US</dc:language>
  <cp:lastModifiedBy>Education</cp:lastModifiedBy>
  <dcterms:modified xsi:type="dcterms:W3CDTF">2009-05-21T23:50:01Z</dcterms:modified>
  <cp:revision>5</cp:revision>
  <dc:subject/>
  <dc:title>Slide 1</dc:title>
</cp:coreProperties>
</file>